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A40-D8B7-47AB-9C62-387D24EE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5B2-C951-4876-83C3-908B6D1F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ECE-B77F-45D9-80B0-015C9224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FFA-3F26-460F-AEE7-6C1B41C9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793-EC3C-4C18-8112-95B50DFF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AAC-786F-4E75-8BE6-BC05D3B3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28D-4C8A-48A4-BCD4-90D2B6FF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423-AF9F-4882-9C4C-54BC0320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BE5-7050-44AF-AB18-61F85444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275-734B-4A63-9D4F-105E6E8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8CF-3261-474D-8469-4ECB28DB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FA4-7BEB-415E-99B1-91CAB073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31AD-B8C4-4529-8196-1D0C17C42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e llamo _________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lase 6nh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a fecha es el 7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8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Juegas fút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3 sentences about each of the following topic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6 in tota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 famili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 ca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05400" y="1295280"/>
            <a:ext cx="251928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709720" cy="281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4952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jug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095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jug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00240" y="2895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467480" y="21337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162920" y="3200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86692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886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5028840" y="1447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419720" y="2209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219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129528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izqui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819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pi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4191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4114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rod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(derec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 b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334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l bal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205704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tablero ind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t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42900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67280" y="17524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port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2324160" cy="1743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50292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por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2724120" cy="215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971800" y="53341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espec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579132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a espec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4724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campo de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5146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mar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3123720"/>
            <a:ext cx="62485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r a…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z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quea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r un gol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ar un tant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artid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imer tiemp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gundo tiempo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mpate (empatado)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ra-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stadio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763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irst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914400"/>
            <a:ext cx="335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cond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3716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tie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124080"/>
            <a:ext cx="327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play..</a:t>
            </a:r>
            <a:r>
              <a:rPr b="0" i="1" lang="es-ES_tradnl" sz="2800" spc="-1" strike="noStrike">
                <a:solidFill>
                  <a:srgbClr val="333399"/>
                </a:solidFill>
                <a:latin typeface="Arial"/>
              </a:rPr>
              <a:t>(a s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373392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throw/ to k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43434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8769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54864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score a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60958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o score a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7524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ta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 p. 3; en voz alt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ieta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1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38:52Z</dcterms:created>
  <dc:creator>Helen Zumaeta</dc:creator>
  <dc:description/>
  <dc:language>en-US</dc:language>
  <cp:lastModifiedBy>Helen Zumaeta</cp:lastModifiedBy>
  <dcterms:modified xsi:type="dcterms:W3CDTF">2013-01-04T20:17:10Z</dcterms:modified>
  <cp:revision>20</cp:revision>
  <dc:subject/>
  <dc:title>Me llamo _________        Clase 7 IM La fecha es el 4 de noviembre del 2010</dc:title>
</cp:coreProperties>
</file>